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808F-9A8F-4D01-8F9A-5ACBD761D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d5292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0EB9-4DA1-4C88-989B-56271A08E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d5292"/>
              </a:solidFill>
              <a:latin typeface="Arial Narrow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5B80BD-70A4-4DAC-969B-A07536772E8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d529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FA05ED-E8E1-48FD-909B-EBB5A0303E6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FA4FD2-896A-47DE-814C-B01D98A3173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d5292"/>
              </a:solidFill>
              <a:latin typeface="Arial Narrow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F31F3D-D7D0-47AE-993A-B61CA76E2D9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d5292"/>
              </a:solidFill>
              <a:latin typeface="Arial Narrow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C5924A-4291-45A1-B84B-209A6FF1BB4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d5292"/>
              </a:solidFill>
              <a:latin typeface="Arial Narrow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541B84-10E6-4F25-B0D5-EB2C8D80995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d5292"/>
              </a:solidFill>
              <a:latin typeface="Arial Narrow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89FBA0-7C54-499F-8C61-4E6FAFEA7F7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d5292"/>
              </a:solidFill>
              <a:latin typeface="Arial Narrow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730CDB-8FD7-4328-BFC0-958345D5539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d5292"/>
              </a:solidFill>
              <a:latin typeface="Arial Narrow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0B4055-87C2-4F18-A0EE-A6132E46FC4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B9B8F8-EE04-4E08-A72A-5CD1081CA7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d5292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86B3-6269-457F-98C9-72CDEF942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d5292"/>
              </a:solidFill>
              <a:latin typeface="Arial Narrow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9FABD2-A810-4C05-93E8-1B8447CEC28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d5292"/>
              </a:solidFill>
              <a:latin typeface="Arial Narrow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0B7A0D-4C30-471F-91F2-EBCBD91781C8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d5292"/>
              </a:solidFill>
              <a:latin typeface="Arial Narrow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C21170-DEE1-49B0-9B10-AA75226A8AB9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d529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ED2200-9FD3-43C5-8934-C7827E67B45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22239C-015D-4718-8802-3BC7CF4DC647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d5292"/>
              </a:solidFill>
              <a:latin typeface="Arial Narrow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CBD4D1-351A-42A1-BAB7-4895BC6A0354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d5292"/>
              </a:solidFill>
              <a:latin typeface="Arial Narrow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4C0BC7-3AB5-47FF-9B66-BEA64D2088A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d5292"/>
              </a:solidFill>
              <a:latin typeface="Arial Narrow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CBEA52-0CBE-4CD7-A090-BA005EC6648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d5292"/>
              </a:solidFill>
              <a:latin typeface="Arial Narrow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0DB272-7748-460F-9015-35236363E613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d5292"/>
              </a:solidFill>
              <a:latin typeface="Arial Narrow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90C839-0594-4F78-AAFB-9AC8AEFF45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d5292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7114-5CA6-4985-8E81-AF4991D83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d5292"/>
              </a:solidFill>
              <a:latin typeface="Arial Narrow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399A58-EF15-4D20-B084-F0DA245D97BC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48EAE-AD72-436D-95A6-7BD7185E8DFA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d5292"/>
              </a:solidFill>
              <a:latin typeface="Arial Narrow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A68B3-6254-41EC-8290-8A1882DB7119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d5292"/>
              </a:solidFill>
              <a:latin typeface="Arial Narrow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B4E48-DAEA-4FA1-AF5E-FCC84994C18B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d5292"/>
              </a:solidFill>
              <a:latin typeface="Arial Narrow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E50FB-3D47-48AE-9240-4AC503FA981C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d529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D5904-01D0-40D4-82D3-268B07CE5950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CFD73-E4AF-42B5-BB65-825E20ABFD9F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d5292"/>
              </a:solidFill>
              <a:latin typeface="Arial Narrow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C2128-0DB1-4804-8BB7-30C06F16FF07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d5292"/>
              </a:solidFill>
              <a:latin typeface="Arial Narrow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7EC8D-520A-4152-BF17-CC1980D3B6D6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d5292"/>
              </a:solidFill>
              <a:latin typeface="Arial Narrow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B49FC-3C3E-4A67-812D-14CC48C044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850AAE-C4E9-48D2-A41B-841055B5FB1E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d5292"/>
              </a:solidFill>
              <a:latin typeface="Arial Narrow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3B8C6-02D4-4FDE-981B-95FBAB6C056F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d5292"/>
              </a:solidFill>
              <a:latin typeface="Arial Narrow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81ECA-30F3-426B-BCE1-C8CBD9FC9EE2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d5292"/>
              </a:solidFill>
              <a:latin typeface="Arial Narrow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3751F-6D07-473A-9291-58E64D80C5F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d5292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3CD211-4CC1-4321-845A-54D18A14002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d5292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CCC416-7593-4524-97E9-F17F4C1A889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d5292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69B643-E31A-4F22-AF57-3ABD72F1F90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d529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83F010-1477-49A5-93ED-B832725ADAC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B27726-2F5E-4138-8BC7-6E7E2B7A08B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d5292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846FD1-C6D6-4424-B87E-A7A051D4C4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d5292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BFA0-71BF-4AE2-B4BB-107AA9E4F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d5292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129DBB-2CB3-4AB9-9CCF-358B0F8FE60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d5292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294644-1946-400B-9688-D0EAF5DE363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d5292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D32953-35B3-463F-B9EB-B30FDFB1C33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d5292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6494A3-1705-4022-9A6C-7D9E5D799B6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d5292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E24C8B-BB4F-4901-B671-04FC7EB989C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3D254C-1D7D-496E-A13B-F78BDB1338B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d5292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90F56D-C48B-4E54-9C80-8ADACDC587F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d5292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BAA815-0F26-421C-B13C-AD96D790DE9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d5292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EF706A-A271-46EC-AF0C-48804DE29B3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d529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F0D758-8F66-40EA-BE15-E9668B68B2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d5292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EA08-3782-48A1-806A-F1A9E5042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691288-7D7D-4599-B6FF-BA5DEDC55DC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d5292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02F7CC-76C1-414B-A13A-54001C533DE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d5292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70B42E-05EC-4AD0-8044-AE201C1B156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d5292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55E383-DF88-4518-896C-380988B0CAB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d5292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09A902-F09A-4D96-A0B5-AD1E276B424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d5292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3877A6-1939-4106-A60A-B682E1CD813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d5292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6F11B3-82BC-407E-8A42-610F875561A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63978-BB6D-453A-AA9C-DAC20EE2CFA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d5292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AACA1-3A74-499A-88C3-0F78B295F72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d5292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6DBFB-356B-478A-A63D-5CCB5B5E23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d5292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2EBC-F678-42A3-BFD2-241BA9B9C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d5292"/>
              </a:solidFill>
              <a:latin typeface="Arial Narrow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927E5-4F48-40F8-9689-464AB12896F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d529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C848B-BA51-4A2D-859E-8393D525470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DD206-5BCC-4090-858C-AE420651B03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d5292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15B15-A7D1-49E2-91C5-0BD81B75014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d5292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30599-3D78-4AF3-B343-CACDD97B479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d5292"/>
              </a:solidFill>
              <a:latin typeface="Arial Narrow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90B07-3A1C-4923-8521-41D1FBD39D8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d5292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BB257-B89A-499D-9649-85CE7E0EB2A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d5292"/>
              </a:solidFill>
              <a:latin typeface="Arial Narrow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B55F8-FC31-446A-9711-D1EF8338624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d5292"/>
              </a:solidFill>
              <a:latin typeface="Arial Narrow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A9386-532F-4B57-A6D3-8F4D897406A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798469-E8CA-49D2-A2EF-B5EAE8CDD8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d529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7F11-280F-484B-B6FF-025A33524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d5292"/>
              </a:solidFill>
              <a:latin typeface="Arial Narrow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84C0E4-45B4-4EF8-9C69-EE0F178082B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d5292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191064-7585-4F40-8340-314FEF05DA3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d5292"/>
              </a:solidFill>
              <a:latin typeface="Arial Narrow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768AD5-3E5C-4332-9F4C-418351B3237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d529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82060D-1365-453C-BEC1-C9F69D9BA40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5C5D96-8A38-4B38-8435-99EE5263726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d5292"/>
              </a:solidFill>
              <a:latin typeface="Arial Narrow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5AE527-8178-4034-A471-77372763C00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d5292"/>
              </a:solidFill>
              <a:latin typeface="Arial Narrow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C86508-976E-4039-A14C-8F2A4C45052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d5292"/>
              </a:solidFill>
              <a:latin typeface="Arial Narrow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F079F1-DC24-44A5-8D81-3FE9BF5EE1B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d5292"/>
              </a:solidFill>
              <a:latin typeface="Arial Narrow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F86CDC-28A3-416A-85D6-B843E95C4D7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d5292"/>
              </a:solidFill>
              <a:latin typeface="Arial Narrow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85E3F7-48BF-4FD7-AA74-6990B11152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66FC-ABBA-443F-937A-FDADB1176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d5292"/>
              </a:solidFill>
              <a:latin typeface="Arial Narrow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80E428-FB09-4A7B-9CEE-4697978D5CF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00E578-D092-4004-82F8-33F8EC91331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d5292"/>
              </a:solidFill>
              <a:latin typeface="Arial Narrow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7364F7-2B60-4876-A60A-59B7A4B6606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d5292"/>
              </a:solidFill>
              <a:latin typeface="Arial Narrow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A79028-862F-4247-8A2F-787F2CAC8B1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d5292"/>
              </a:solidFill>
              <a:latin typeface="Arial Narrow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42CF6C-BDF0-4232-AAA5-74EC97AE58E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d529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576135-A51F-4989-9B17-689A5CAD228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8E8BE4-FD2E-4184-93CF-57A2406E935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d5292"/>
              </a:solidFill>
              <a:latin typeface="Arial Narrow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2E793B-597C-49C5-9493-79CFAFC0A7E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d5292"/>
              </a:solidFill>
              <a:latin typeface="Arial Narrow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70C877-9C1B-47AE-BA68-322CED2747A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d5292"/>
              </a:solidFill>
              <a:latin typeface="Arial Narrow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A337BE-0BDA-4F54-9D52-0333B9F3AA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d5292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E039-8E75-45DB-B6AD-7E73B146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d5292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25C1F4-9941-40DE-B640-6EF4BC74811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d5292"/>
              </a:solidFill>
              <a:latin typeface="Arial Narrow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905BFD-6265-4B52-8E0B-302F82D6CA7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d5292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DB837C-9047-45B6-B139-2B928B8C51C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05165-C71E-4437-8908-4198E9B53BA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d5292"/>
              </a:solidFill>
              <a:latin typeface="Arial Narrow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7E749-B2F7-458F-ACBB-3036C5E646B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d5292"/>
              </a:solidFill>
              <a:latin typeface="Arial Narrow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2C8B5-8562-475A-AEFD-9A7134742A4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d5292"/>
              </a:solidFill>
              <a:latin typeface="Arial Narrow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781E8-E820-4284-B56E-12623F526CB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d529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629DC-421B-4FAD-A51F-B70F4F5E7B4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63EE1-D438-4D4F-B2B7-78A74AE9196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d5292"/>
              </a:solidFill>
              <a:latin typeface="Arial Narrow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0C6D9-6687-44BA-B060-239F04185C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d5292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C413-BCBE-4BD4-8C68-A9887F44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d5292"/>
              </a:solidFill>
              <a:latin typeface="Arial Narrow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5033B-5F47-4C82-B1C8-CDA3503C9BE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d5292"/>
              </a:solidFill>
              <a:latin typeface="Arial Narrow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064A6-4D6A-420C-AC25-2F01BBEA2C9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d5292"/>
              </a:solidFill>
              <a:latin typeface="Arial Narrow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21769-3BAF-403A-A339-BB481523EB9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d5292"/>
              </a:solidFill>
              <a:latin typeface="Arial Narrow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C5E95-150C-4A37-A51C-AC2441929E7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d5292"/>
              </a:solidFill>
              <a:latin typeface="Arial Narrow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A1091-2E29-40A9-A379-FDC161FA7F3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d5292"/>
              </a:solidFill>
              <a:latin typeface="Arial Narrow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d5292"/>
              </a:solidFill>
              <a:latin typeface="Arial Narrow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d5292"/>
              </a:solidFill>
              <a:latin typeface="Arial Narrow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d5292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d5292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B210-7B16-43A9-99BE-BF083C8B3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d5292"/>
              </a:solidFill>
              <a:latin typeface="Arial Narrow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d5292"/>
              </a:solidFill>
              <a:latin typeface="Arial Narrow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d5292"/>
              </a:solidFill>
              <a:latin typeface="Arial Narrow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d5292"/>
              </a:solidFill>
              <a:latin typeface="Arial Narrow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d5292"/>
              </a:solidFill>
              <a:latin typeface="Arial Narrow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d5292"/>
              </a:solidFill>
              <a:latin typeface="Arial Narrow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0727E0-1CC1-4B4E-A696-2D1E6FA572B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d5292"/>
              </a:solidFill>
              <a:latin typeface="Arial Narrow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900336-19F5-4529-9AC0-EF3525E5689C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d5292"/>
              </a:solidFill>
              <a:latin typeface="Arial Narrow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1521B1-4AA2-4D7B-BBA2-ABF1A74D15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d5292"/>
                </a:solidFill>
                <a:latin typeface="Arial Narrow"/>
              </a:rPr>
              <a:t>Click to edit the title text format</a:t>
            </a:r>
            <a:endParaRPr b="0" lang="en-US" sz="3300" spc="-1" strike="noStrike">
              <a:solidFill>
                <a:srgbClr val="0d5292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ttangolo 9"/>
          <p:cNvSpPr/>
          <p:nvPr/>
        </p:nvSpPr>
        <p:spPr>
          <a:xfrm>
            <a:off x="0" y="360360"/>
            <a:ext cx="303120" cy="561960"/>
          </a:xfrm>
          <a:prstGeom prst="rect">
            <a:avLst/>
          </a:prstGeom>
          <a:solidFill>
            <a:srgbClr val="2f55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Immagine 11" descr=""/>
          <p:cNvPicPr/>
          <p:nvPr/>
        </p:nvPicPr>
        <p:blipFill>
          <a:blip r:embed="rId2"/>
          <a:stretch/>
        </p:blipFill>
        <p:spPr>
          <a:xfrm>
            <a:off x="74520" y="5807160"/>
            <a:ext cx="917640" cy="919080"/>
          </a:xfrm>
          <a:prstGeom prst="rect">
            <a:avLst/>
          </a:prstGeom>
          <a:ln w="0">
            <a:noFill/>
          </a:ln>
        </p:spPr>
      </p:pic>
      <p:pic>
        <p:nvPicPr>
          <p:cNvPr id="6" name="Immagine 2" descr=""/>
          <p:cNvPicPr/>
          <p:nvPr/>
        </p:nvPicPr>
        <p:blipFill>
          <a:blip r:embed="rId3"/>
          <a:stretch/>
        </p:blipFill>
        <p:spPr>
          <a:xfrm>
            <a:off x="6851520" y="6381720"/>
            <a:ext cx="1076400" cy="31284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490880" y="6356520"/>
            <a:ext cx="1024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000" spc="-1" strike="noStrike">
                <a:solidFill>
                  <a:srgbClr val="0d5292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81266-9BC3-44B7-8B90-BCE06BC576AE}" type="slidenum">
              <a:rPr b="0" lang="en-GB" sz="2000" spc="-1" strike="noStrike">
                <a:solidFill>
                  <a:srgbClr val="0d5292"/>
                </a:solidFill>
                <a:latin typeface="Arial Narrow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ttangolo 9"/>
          <p:cNvSpPr/>
          <p:nvPr/>
        </p:nvSpPr>
        <p:spPr>
          <a:xfrm>
            <a:off x="0" y="360360"/>
            <a:ext cx="303120" cy="561960"/>
          </a:xfrm>
          <a:prstGeom prst="rect">
            <a:avLst/>
          </a:prstGeom>
          <a:solidFill>
            <a:srgbClr val="2f55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Immagine 11" descr=""/>
          <p:cNvPicPr/>
          <p:nvPr/>
        </p:nvPicPr>
        <p:blipFill>
          <a:blip r:embed="rId2"/>
          <a:stretch/>
        </p:blipFill>
        <p:spPr>
          <a:xfrm>
            <a:off x="74520" y="5807160"/>
            <a:ext cx="917640" cy="919080"/>
          </a:xfrm>
          <a:prstGeom prst="rect">
            <a:avLst/>
          </a:prstGeom>
          <a:ln w="0">
            <a:noFill/>
          </a:ln>
        </p:spPr>
      </p:pic>
      <p:pic>
        <p:nvPicPr>
          <p:cNvPr id="383" name="Immagine 2" descr=""/>
          <p:cNvPicPr/>
          <p:nvPr/>
        </p:nvPicPr>
        <p:blipFill>
          <a:blip r:embed="rId3"/>
          <a:stretch/>
        </p:blipFill>
        <p:spPr>
          <a:xfrm>
            <a:off x="6851520" y="6381720"/>
            <a:ext cx="1076400" cy="312840"/>
          </a:xfrm>
          <a:prstGeom prst="rect">
            <a:avLst/>
          </a:prstGeom>
          <a:ln w="0">
            <a:noFill/>
          </a:ln>
        </p:spPr>
      </p:pic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d5292"/>
                </a:solidFill>
                <a:latin typeface="Arial Narrow"/>
              </a:rPr>
              <a:t>Click to edit the title text format</a:t>
            </a:r>
            <a:endParaRPr b="0" lang="en-US" sz="3300" spc="-1" strike="noStrike">
              <a:solidFill>
                <a:srgbClr val="0d5292"/>
              </a:solidFill>
              <a:latin typeface="Arial Narrow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sldNum" idx="11"/>
          </p:nvPr>
        </p:nvSpPr>
        <p:spPr>
          <a:xfrm>
            <a:off x="7490880" y="6356520"/>
            <a:ext cx="1024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000" spc="-1" strike="noStrike">
                <a:solidFill>
                  <a:srgbClr val="0d5292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2C1D7-820B-4F39-BD8B-73033293E860}" type="slidenum">
              <a:rPr b="0" lang="en-GB" sz="2000" spc="-1" strike="noStrike">
                <a:solidFill>
                  <a:srgbClr val="0d5292"/>
                </a:solidFill>
                <a:latin typeface="Arial Narrow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ttangolo 9"/>
          <p:cNvSpPr/>
          <p:nvPr/>
        </p:nvSpPr>
        <p:spPr>
          <a:xfrm>
            <a:off x="0" y="360360"/>
            <a:ext cx="303120" cy="561960"/>
          </a:xfrm>
          <a:prstGeom prst="rect">
            <a:avLst/>
          </a:prstGeom>
          <a:solidFill>
            <a:srgbClr val="2f55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Immagine 11" descr=""/>
          <p:cNvPicPr/>
          <p:nvPr/>
        </p:nvPicPr>
        <p:blipFill>
          <a:blip r:embed="rId2"/>
          <a:stretch/>
        </p:blipFill>
        <p:spPr>
          <a:xfrm>
            <a:off x="74520" y="5807160"/>
            <a:ext cx="917640" cy="919080"/>
          </a:xfrm>
          <a:prstGeom prst="rect">
            <a:avLst/>
          </a:prstGeom>
          <a:ln w="0">
            <a:noFill/>
          </a:ln>
        </p:spPr>
      </p:pic>
      <p:pic>
        <p:nvPicPr>
          <p:cNvPr id="425" name="Immagine 2" descr=""/>
          <p:cNvPicPr/>
          <p:nvPr/>
        </p:nvPicPr>
        <p:blipFill>
          <a:blip r:embed="rId3"/>
          <a:stretch/>
        </p:blipFill>
        <p:spPr>
          <a:xfrm>
            <a:off x="6851520" y="6381720"/>
            <a:ext cx="1076400" cy="31284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d5292"/>
                </a:solidFill>
                <a:latin typeface="Arial Narrow"/>
              </a:rPr>
              <a:t>Click to edit the title text format</a:t>
            </a:r>
            <a:endParaRPr b="0" lang="en-US" sz="3300" spc="-1" strike="noStrike">
              <a:solidFill>
                <a:srgbClr val="0d5292"/>
              </a:solidFill>
              <a:latin typeface="Arial Narrow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sldNum" idx="12"/>
          </p:nvPr>
        </p:nvSpPr>
        <p:spPr>
          <a:xfrm>
            <a:off x="7490880" y="6356520"/>
            <a:ext cx="1024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000" spc="-1" strike="noStrike">
                <a:solidFill>
                  <a:srgbClr val="0d5292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57A00-9842-4A29-AE2D-88475179CA85}" type="slidenum">
              <a:rPr b="0" lang="en-GB" sz="2000" spc="-1" strike="noStrike">
                <a:solidFill>
                  <a:srgbClr val="0d5292"/>
                </a:solidFill>
                <a:latin typeface="Arial Narrow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ttangolo 9"/>
          <p:cNvSpPr/>
          <p:nvPr/>
        </p:nvSpPr>
        <p:spPr>
          <a:xfrm>
            <a:off x="0" y="360360"/>
            <a:ext cx="303120" cy="561960"/>
          </a:xfrm>
          <a:prstGeom prst="rect">
            <a:avLst/>
          </a:prstGeom>
          <a:solidFill>
            <a:srgbClr val="2f55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Immagine 11" descr=""/>
          <p:cNvPicPr/>
          <p:nvPr/>
        </p:nvPicPr>
        <p:blipFill>
          <a:blip r:embed="rId2"/>
          <a:stretch/>
        </p:blipFill>
        <p:spPr>
          <a:xfrm>
            <a:off x="74520" y="5807160"/>
            <a:ext cx="917640" cy="919080"/>
          </a:xfrm>
          <a:prstGeom prst="rect">
            <a:avLst/>
          </a:prstGeom>
          <a:ln w="0">
            <a:noFill/>
          </a:ln>
        </p:spPr>
      </p:pic>
      <p:pic>
        <p:nvPicPr>
          <p:cNvPr id="46" name="Immagine 2" descr=""/>
          <p:cNvPicPr/>
          <p:nvPr/>
        </p:nvPicPr>
        <p:blipFill>
          <a:blip r:embed="rId3"/>
          <a:stretch/>
        </p:blipFill>
        <p:spPr>
          <a:xfrm>
            <a:off x="6851520" y="6381720"/>
            <a:ext cx="1076400" cy="3128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d5292"/>
                </a:solidFill>
                <a:latin typeface="Arial Narrow"/>
              </a:rPr>
              <a:t>Click to edit the title text format</a:t>
            </a:r>
            <a:endParaRPr b="0" lang="en-US" sz="3300" spc="-1" strike="noStrike">
              <a:solidFill>
                <a:srgbClr val="0d5292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7490880" y="6356520"/>
            <a:ext cx="1024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000" spc="-1" strike="noStrike">
                <a:solidFill>
                  <a:srgbClr val="0d5292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043A8-03F3-4722-83DF-502F08AF7834}" type="slidenum">
              <a:rPr b="0" lang="en-GB" sz="2000" spc="-1" strike="noStrike">
                <a:solidFill>
                  <a:srgbClr val="0d5292"/>
                </a:solidFill>
                <a:latin typeface="Arial Narrow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ttangolo 9"/>
          <p:cNvSpPr/>
          <p:nvPr/>
        </p:nvSpPr>
        <p:spPr>
          <a:xfrm>
            <a:off x="0" y="360360"/>
            <a:ext cx="303120" cy="561960"/>
          </a:xfrm>
          <a:prstGeom prst="rect">
            <a:avLst/>
          </a:prstGeom>
          <a:solidFill>
            <a:srgbClr val="2f55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Immagine 11" descr=""/>
          <p:cNvPicPr/>
          <p:nvPr/>
        </p:nvPicPr>
        <p:blipFill>
          <a:blip r:embed="rId2"/>
          <a:stretch/>
        </p:blipFill>
        <p:spPr>
          <a:xfrm>
            <a:off x="74520" y="5807160"/>
            <a:ext cx="917640" cy="919080"/>
          </a:xfrm>
          <a:prstGeom prst="rect">
            <a:avLst/>
          </a:prstGeom>
          <a:ln w="0">
            <a:noFill/>
          </a:ln>
        </p:spPr>
      </p:pic>
      <p:pic>
        <p:nvPicPr>
          <p:cNvPr id="88" name="Immagine 2" descr=""/>
          <p:cNvPicPr/>
          <p:nvPr/>
        </p:nvPicPr>
        <p:blipFill>
          <a:blip r:embed="rId3"/>
          <a:stretch/>
        </p:blipFill>
        <p:spPr>
          <a:xfrm>
            <a:off x="6851520" y="6381720"/>
            <a:ext cx="1076400" cy="3128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d5292"/>
                </a:solidFill>
                <a:latin typeface="Arial Narrow"/>
              </a:rPr>
              <a:t>Click to edit the title text format</a:t>
            </a:r>
            <a:endParaRPr b="0" lang="en-US" sz="3300" spc="-1" strike="noStrike">
              <a:solidFill>
                <a:srgbClr val="0d5292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5"/>
          </p:nvPr>
        </p:nvSpPr>
        <p:spPr>
          <a:xfrm>
            <a:off x="7490880" y="6356520"/>
            <a:ext cx="1024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000" spc="-1" strike="noStrike">
                <a:solidFill>
                  <a:srgbClr val="0d5292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B2557-6AFA-4BF0-9A78-63EEEA8630DB}" type="slidenum">
              <a:rPr b="0" lang="en-GB" sz="2000" spc="-1" strike="noStrike">
                <a:solidFill>
                  <a:srgbClr val="0d5292"/>
                </a:solidFill>
                <a:latin typeface="Arial Narrow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ttangolo 9"/>
          <p:cNvSpPr/>
          <p:nvPr/>
        </p:nvSpPr>
        <p:spPr>
          <a:xfrm>
            <a:off x="0" y="360360"/>
            <a:ext cx="303120" cy="561960"/>
          </a:xfrm>
          <a:prstGeom prst="rect">
            <a:avLst/>
          </a:prstGeom>
          <a:solidFill>
            <a:srgbClr val="2f55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Immagine 11" descr=""/>
          <p:cNvPicPr/>
          <p:nvPr/>
        </p:nvPicPr>
        <p:blipFill>
          <a:blip r:embed="rId2"/>
          <a:stretch/>
        </p:blipFill>
        <p:spPr>
          <a:xfrm>
            <a:off x="74520" y="5807160"/>
            <a:ext cx="917640" cy="919080"/>
          </a:xfrm>
          <a:prstGeom prst="rect">
            <a:avLst/>
          </a:prstGeom>
          <a:ln w="0">
            <a:noFill/>
          </a:ln>
        </p:spPr>
      </p:pic>
      <p:pic>
        <p:nvPicPr>
          <p:cNvPr id="130" name="Immagine 2" descr=""/>
          <p:cNvPicPr/>
          <p:nvPr/>
        </p:nvPicPr>
        <p:blipFill>
          <a:blip r:embed="rId3"/>
          <a:stretch/>
        </p:blipFill>
        <p:spPr>
          <a:xfrm>
            <a:off x="6851520" y="6381720"/>
            <a:ext cx="1076400" cy="3128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d5292"/>
                </a:solidFill>
                <a:latin typeface="Arial Narrow"/>
              </a:rPr>
              <a:t>Click to edit the title text format</a:t>
            </a:r>
            <a:endParaRPr b="0" lang="en-US" sz="3300" spc="-1" strike="noStrike">
              <a:solidFill>
                <a:srgbClr val="0d5292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Num" idx="6"/>
          </p:nvPr>
        </p:nvSpPr>
        <p:spPr>
          <a:xfrm>
            <a:off x="7490880" y="6356520"/>
            <a:ext cx="1024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000" spc="-1" strike="noStrike">
                <a:solidFill>
                  <a:srgbClr val="0d5292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B87EB-C33C-4801-8302-7EB12AE62E9B}" type="slidenum">
              <a:rPr b="0" lang="en-GB" sz="2000" spc="-1" strike="noStrike">
                <a:solidFill>
                  <a:srgbClr val="0d5292"/>
                </a:solidFill>
                <a:latin typeface="Arial Narrow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ttangolo 9"/>
          <p:cNvSpPr/>
          <p:nvPr/>
        </p:nvSpPr>
        <p:spPr>
          <a:xfrm>
            <a:off x="0" y="360360"/>
            <a:ext cx="303120" cy="561960"/>
          </a:xfrm>
          <a:prstGeom prst="rect">
            <a:avLst/>
          </a:prstGeom>
          <a:solidFill>
            <a:srgbClr val="2f55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Immagine 11" descr=""/>
          <p:cNvPicPr/>
          <p:nvPr/>
        </p:nvPicPr>
        <p:blipFill>
          <a:blip r:embed="rId2"/>
          <a:stretch/>
        </p:blipFill>
        <p:spPr>
          <a:xfrm>
            <a:off x="74520" y="5807160"/>
            <a:ext cx="917640" cy="919080"/>
          </a:xfrm>
          <a:prstGeom prst="rect">
            <a:avLst/>
          </a:prstGeom>
          <a:ln w="0">
            <a:noFill/>
          </a:ln>
        </p:spPr>
      </p:pic>
      <p:pic>
        <p:nvPicPr>
          <p:cNvPr id="172" name="Immagine 2" descr=""/>
          <p:cNvPicPr/>
          <p:nvPr/>
        </p:nvPicPr>
        <p:blipFill>
          <a:blip r:embed="rId3"/>
          <a:stretch/>
        </p:blipFill>
        <p:spPr>
          <a:xfrm>
            <a:off x="6851520" y="6381720"/>
            <a:ext cx="1076400" cy="31284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d5292"/>
                </a:solidFill>
                <a:latin typeface="Arial Narrow"/>
              </a:rPr>
              <a:t>Click to edit the title text format</a:t>
            </a:r>
            <a:endParaRPr b="0" lang="en-US" sz="3300" spc="-1" strike="noStrike">
              <a:solidFill>
                <a:srgbClr val="0d5292"/>
              </a:solidFill>
              <a:latin typeface="Arial Narrow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sldNum" idx="7"/>
          </p:nvPr>
        </p:nvSpPr>
        <p:spPr>
          <a:xfrm>
            <a:off x="7490880" y="6356520"/>
            <a:ext cx="1024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000" spc="-1" strike="noStrike">
                <a:solidFill>
                  <a:srgbClr val="0d5292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2C780-98D7-4834-AA01-35E7FE8BDDC9}" type="slidenum">
              <a:rPr b="0" lang="en-GB" sz="2000" spc="-1" strike="noStrike">
                <a:solidFill>
                  <a:srgbClr val="0d5292"/>
                </a:solidFill>
                <a:latin typeface="Arial Narrow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ttangolo 9"/>
          <p:cNvSpPr/>
          <p:nvPr/>
        </p:nvSpPr>
        <p:spPr>
          <a:xfrm>
            <a:off x="0" y="360360"/>
            <a:ext cx="303120" cy="561960"/>
          </a:xfrm>
          <a:prstGeom prst="rect">
            <a:avLst/>
          </a:prstGeom>
          <a:solidFill>
            <a:srgbClr val="2f55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Immagine 11" descr=""/>
          <p:cNvPicPr/>
          <p:nvPr/>
        </p:nvPicPr>
        <p:blipFill>
          <a:blip r:embed="rId2"/>
          <a:stretch/>
        </p:blipFill>
        <p:spPr>
          <a:xfrm>
            <a:off x="74520" y="5807160"/>
            <a:ext cx="917640" cy="919080"/>
          </a:xfrm>
          <a:prstGeom prst="rect">
            <a:avLst/>
          </a:prstGeom>
          <a:ln w="0">
            <a:noFill/>
          </a:ln>
        </p:spPr>
      </p:pic>
      <p:pic>
        <p:nvPicPr>
          <p:cNvPr id="214" name="Immagine 2" descr=""/>
          <p:cNvPicPr/>
          <p:nvPr/>
        </p:nvPicPr>
        <p:blipFill>
          <a:blip r:embed="rId3"/>
          <a:stretch/>
        </p:blipFill>
        <p:spPr>
          <a:xfrm>
            <a:off x="6851520" y="6381720"/>
            <a:ext cx="1076400" cy="31284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d5292"/>
                </a:solidFill>
                <a:latin typeface="Arial Narrow"/>
              </a:rPr>
              <a:t>Click to edit the title text format</a:t>
            </a:r>
            <a:endParaRPr b="0" lang="en-US" sz="3300" spc="-1" strike="noStrike">
              <a:solidFill>
                <a:srgbClr val="0d5292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Num" idx="8"/>
          </p:nvPr>
        </p:nvSpPr>
        <p:spPr>
          <a:xfrm>
            <a:off x="7490880" y="6356520"/>
            <a:ext cx="1024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000" spc="-1" strike="noStrike">
                <a:solidFill>
                  <a:srgbClr val="0d5292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A446D-9C01-46D5-8667-859CD3E5FE57}" type="slidenum">
              <a:rPr b="0" lang="en-GB" sz="2000" spc="-1" strike="noStrike">
                <a:solidFill>
                  <a:srgbClr val="0d5292"/>
                </a:solidFill>
                <a:latin typeface="Arial Narrow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ttangolo 9"/>
          <p:cNvSpPr/>
          <p:nvPr/>
        </p:nvSpPr>
        <p:spPr>
          <a:xfrm>
            <a:off x="0" y="360360"/>
            <a:ext cx="303120" cy="561960"/>
          </a:xfrm>
          <a:prstGeom prst="rect">
            <a:avLst/>
          </a:prstGeom>
          <a:solidFill>
            <a:srgbClr val="2f55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Immagine 11" descr=""/>
          <p:cNvPicPr/>
          <p:nvPr/>
        </p:nvPicPr>
        <p:blipFill>
          <a:blip r:embed="rId2"/>
          <a:stretch/>
        </p:blipFill>
        <p:spPr>
          <a:xfrm>
            <a:off x="74520" y="5807160"/>
            <a:ext cx="917640" cy="919080"/>
          </a:xfrm>
          <a:prstGeom prst="rect">
            <a:avLst/>
          </a:prstGeom>
          <a:ln w="0">
            <a:noFill/>
          </a:ln>
        </p:spPr>
      </p:pic>
      <p:pic>
        <p:nvPicPr>
          <p:cNvPr id="256" name="Immagine 2" descr=""/>
          <p:cNvPicPr/>
          <p:nvPr/>
        </p:nvPicPr>
        <p:blipFill>
          <a:blip r:embed="rId3"/>
          <a:stretch/>
        </p:blipFill>
        <p:spPr>
          <a:xfrm>
            <a:off x="6851520" y="6381720"/>
            <a:ext cx="1076400" cy="31284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d5292"/>
                </a:solidFill>
                <a:latin typeface="Arial Narrow"/>
              </a:rPr>
              <a:t>Click to edit the title text format</a:t>
            </a:r>
            <a:endParaRPr b="0" lang="en-US" sz="3300" spc="-1" strike="noStrike">
              <a:solidFill>
                <a:srgbClr val="0d5292"/>
              </a:solidFill>
              <a:latin typeface="Arial Narrow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sldNum" idx="9"/>
          </p:nvPr>
        </p:nvSpPr>
        <p:spPr>
          <a:xfrm>
            <a:off x="7490880" y="6356520"/>
            <a:ext cx="1024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000" spc="-1" strike="noStrike">
                <a:solidFill>
                  <a:srgbClr val="0d5292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E61C5-5FFD-41A9-A46F-0A2AFCBA13C9}" type="slidenum">
              <a:rPr b="0" lang="en-GB" sz="2000" spc="-1" strike="noStrike">
                <a:solidFill>
                  <a:srgbClr val="0d5292"/>
                </a:solidFill>
                <a:latin typeface="Arial Narrow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ttangolo 9"/>
          <p:cNvSpPr/>
          <p:nvPr/>
        </p:nvSpPr>
        <p:spPr>
          <a:xfrm>
            <a:off x="0" y="360360"/>
            <a:ext cx="303120" cy="561960"/>
          </a:xfrm>
          <a:prstGeom prst="rect">
            <a:avLst/>
          </a:prstGeom>
          <a:solidFill>
            <a:srgbClr val="2f55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Immagine 11" descr=""/>
          <p:cNvPicPr/>
          <p:nvPr/>
        </p:nvPicPr>
        <p:blipFill>
          <a:blip r:embed="rId2"/>
          <a:stretch/>
        </p:blipFill>
        <p:spPr>
          <a:xfrm>
            <a:off x="74520" y="5807160"/>
            <a:ext cx="917640" cy="919080"/>
          </a:xfrm>
          <a:prstGeom prst="rect">
            <a:avLst/>
          </a:prstGeom>
          <a:ln w="0">
            <a:noFill/>
          </a:ln>
        </p:spPr>
      </p:pic>
      <p:pic>
        <p:nvPicPr>
          <p:cNvPr id="298" name="Immagine 2" descr=""/>
          <p:cNvPicPr/>
          <p:nvPr/>
        </p:nvPicPr>
        <p:blipFill>
          <a:blip r:embed="rId3"/>
          <a:stretch/>
        </p:blipFill>
        <p:spPr>
          <a:xfrm>
            <a:off x="6851520" y="6381720"/>
            <a:ext cx="1076400" cy="312840"/>
          </a:xfrm>
          <a:prstGeom prst="rect">
            <a:avLst/>
          </a:prstGeom>
          <a:ln w="0">
            <a:noFill/>
          </a:ln>
        </p:spPr>
      </p:pic>
      <p:sp>
        <p:nvSpPr>
          <p:cNvPr id="299" name="Rettangolo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559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Immagine 1" descr=""/>
          <p:cNvPicPr/>
          <p:nvPr/>
        </p:nvPicPr>
        <p:blipFill>
          <a:blip r:embed="rId4"/>
          <a:srcRect l="0" t="9381" r="4264" b="5863"/>
          <a:stretch/>
        </p:blipFill>
        <p:spPr>
          <a:xfrm>
            <a:off x="3460680" y="0"/>
            <a:ext cx="5683320" cy="685800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d5292"/>
                </a:solidFill>
                <a:latin typeface="Arial Narrow"/>
              </a:rPr>
              <a:t>Click to edit the title text format</a:t>
            </a:r>
            <a:endParaRPr b="0" lang="en-US" sz="3300" spc="-1" strike="noStrike">
              <a:solidFill>
                <a:srgbClr val="0d5292"/>
              </a:solidFill>
              <a:latin typeface="Arial Narrow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ttangolo 9"/>
          <p:cNvSpPr/>
          <p:nvPr/>
        </p:nvSpPr>
        <p:spPr>
          <a:xfrm>
            <a:off x="0" y="360360"/>
            <a:ext cx="303120" cy="561960"/>
          </a:xfrm>
          <a:prstGeom prst="rect">
            <a:avLst/>
          </a:prstGeom>
          <a:solidFill>
            <a:srgbClr val="2f55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Immagine 11" descr=""/>
          <p:cNvPicPr/>
          <p:nvPr/>
        </p:nvPicPr>
        <p:blipFill>
          <a:blip r:embed="rId2"/>
          <a:stretch/>
        </p:blipFill>
        <p:spPr>
          <a:xfrm>
            <a:off x="74520" y="5807160"/>
            <a:ext cx="917640" cy="919080"/>
          </a:xfrm>
          <a:prstGeom prst="rect">
            <a:avLst/>
          </a:prstGeom>
          <a:ln w="0">
            <a:noFill/>
          </a:ln>
        </p:spPr>
      </p:pic>
      <p:pic>
        <p:nvPicPr>
          <p:cNvPr id="341" name="Immagine 2" descr=""/>
          <p:cNvPicPr/>
          <p:nvPr/>
        </p:nvPicPr>
        <p:blipFill>
          <a:blip r:embed="rId3"/>
          <a:stretch/>
        </p:blipFill>
        <p:spPr>
          <a:xfrm>
            <a:off x="6851520" y="6381720"/>
            <a:ext cx="1076400" cy="31284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d5292"/>
                </a:solidFill>
                <a:latin typeface="Arial Narrow"/>
              </a:rPr>
              <a:t>Click to edit the title text format</a:t>
            </a:r>
            <a:endParaRPr b="0" lang="en-US" sz="3300" spc="-1" strike="noStrike">
              <a:solidFill>
                <a:srgbClr val="0d5292"/>
              </a:solidFill>
              <a:latin typeface="Arial Narrow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sldNum" idx="10"/>
          </p:nvPr>
        </p:nvSpPr>
        <p:spPr>
          <a:xfrm>
            <a:off x="7490880" y="6356520"/>
            <a:ext cx="1024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000" spc="-1" strike="noStrike">
                <a:solidFill>
                  <a:srgbClr val="0d5292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CF64D-A852-4137-B34D-1D631F0A012A}" type="slidenum">
              <a:rPr b="0" lang="en-GB" sz="2000" spc="-1" strike="noStrike">
                <a:solidFill>
                  <a:srgbClr val="0d5292"/>
                </a:solidFill>
                <a:latin typeface="Arial Narrow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ttangolo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Immagine 1" descr=""/>
          <p:cNvPicPr/>
          <p:nvPr/>
        </p:nvPicPr>
        <p:blipFill>
          <a:blip r:embed="rId1"/>
          <a:srcRect l="0" t="9381" r="4264" b="5863"/>
          <a:stretch/>
        </p:blipFill>
        <p:spPr>
          <a:xfrm>
            <a:off x="3460680" y="0"/>
            <a:ext cx="5683320" cy="6858000"/>
          </a:xfrm>
          <a:prstGeom prst="rect">
            <a:avLst/>
          </a:prstGeom>
          <a:ln w="0">
            <a:noFill/>
          </a:ln>
        </p:spPr>
      </p:pic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896000" y="4025520"/>
            <a:ext cx="399888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it-IT" sz="2400" spc="-1" strike="noStrike">
                <a:solidFill>
                  <a:srgbClr val="296aa3"/>
                </a:solidFill>
                <a:latin typeface="Arial Narrow"/>
                <a:ea typeface="Bebas"/>
              </a:rPr>
              <a:t>ANDAMENTO ECONOMICO</a:t>
            </a:r>
            <a:endParaRPr b="0" lang="en-US" sz="2400" spc="-1" strike="noStrike">
              <a:solidFill>
                <a:srgbClr val="0d5292"/>
              </a:solidFill>
              <a:latin typeface="Arial Narrow"/>
            </a:endParaRPr>
          </a:p>
        </p:txBody>
      </p:sp>
      <p:pic>
        <p:nvPicPr>
          <p:cNvPr id="468" name="Immagine 4" descr=""/>
          <p:cNvPicPr/>
          <p:nvPr/>
        </p:nvPicPr>
        <p:blipFill>
          <a:blip r:embed="rId2"/>
          <a:stretch/>
        </p:blipFill>
        <p:spPr>
          <a:xfrm>
            <a:off x="239760" y="1341360"/>
            <a:ext cx="4416480" cy="4417920"/>
          </a:xfrm>
          <a:prstGeom prst="rect">
            <a:avLst/>
          </a:prstGeom>
          <a:ln w="0">
            <a:noFill/>
          </a:ln>
        </p:spPr>
      </p:pic>
      <p:pic>
        <p:nvPicPr>
          <p:cNvPr id="469" name="Immagine 5" descr=""/>
          <p:cNvPicPr/>
          <p:nvPr/>
        </p:nvPicPr>
        <p:blipFill>
          <a:blip r:embed="rId3"/>
          <a:stretch/>
        </p:blipFill>
        <p:spPr>
          <a:xfrm>
            <a:off x="239760" y="406440"/>
            <a:ext cx="1482840" cy="428760"/>
          </a:xfrm>
          <a:prstGeom prst="rect">
            <a:avLst/>
          </a:prstGeom>
          <a:ln w="0">
            <a:noFill/>
          </a:ln>
        </p:spPr>
      </p:pic>
      <p:pic>
        <p:nvPicPr>
          <p:cNvPr id="470" name="Immagine 9" descr=""/>
          <p:cNvPicPr/>
          <p:nvPr/>
        </p:nvPicPr>
        <p:blipFill>
          <a:blip r:embed="rId4"/>
          <a:stretch/>
        </p:blipFill>
        <p:spPr>
          <a:xfrm>
            <a:off x="4937040" y="2575080"/>
            <a:ext cx="3392640" cy="118872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5"/>
          <p:cNvSpPr/>
          <p:nvPr/>
        </p:nvSpPr>
        <p:spPr>
          <a:xfrm>
            <a:off x="291960" y="265680"/>
            <a:ext cx="865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80ff"/>
                </a:solidFill>
                <a:latin typeface="Calibri Light"/>
                <a:ea typeface="Arial"/>
              </a:rPr>
              <a:t>ANDAMENTO ECONO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3"/>
          <p:cNvSpPr/>
          <p:nvPr/>
        </p:nvSpPr>
        <p:spPr>
          <a:xfrm>
            <a:off x="291960" y="969840"/>
            <a:ext cx="8332920" cy="53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3" name="Oggetto 2"/>
          <p:cNvGraphicFramePr/>
          <p:nvPr/>
        </p:nvGraphicFramePr>
        <p:xfrm>
          <a:off x="730080" y="2558880"/>
          <a:ext cx="7683840" cy="174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4" name="Oggetto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080" y="2558880"/>
                    <a:ext cx="7683840" cy="174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ttangolo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Immagine 1" descr=""/>
          <p:cNvPicPr/>
          <p:nvPr/>
        </p:nvPicPr>
        <p:blipFill>
          <a:blip r:embed="rId1"/>
          <a:srcRect l="0" t="9381" r="4264" b="5863"/>
          <a:stretch/>
        </p:blipFill>
        <p:spPr>
          <a:xfrm>
            <a:off x="3460680" y="0"/>
            <a:ext cx="5683320" cy="6858000"/>
          </a:xfrm>
          <a:prstGeom prst="rect">
            <a:avLst/>
          </a:prstGeom>
          <a:ln w="0">
            <a:noFill/>
          </a:ln>
        </p:spPr>
      </p:pic>
      <p:sp>
        <p:nvSpPr>
          <p:cNvPr id="477" name="Rettangolo 1"/>
          <p:cNvSpPr/>
          <p:nvPr/>
        </p:nvSpPr>
        <p:spPr>
          <a:xfrm>
            <a:off x="3065400" y="3209760"/>
            <a:ext cx="30114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baseline="30000">
                <a:solidFill>
                  <a:srgbClr val="115091"/>
                </a:solidFill>
                <a:latin typeface="Arial Narrow"/>
              </a:rPr>
              <a:t>SO.GE.MI S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baseline="30000">
                <a:solidFill>
                  <a:srgbClr val="115091"/>
                </a:solidFill>
                <a:latin typeface="Arial Narrow"/>
              </a:rPr>
              <a:t>Via C. Lombroso 54, Mil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baseline="30000">
                <a:solidFill>
                  <a:srgbClr val="115091"/>
                </a:solidFill>
                <a:latin typeface="Arial Narrow"/>
              </a:rPr>
              <a:t>info@foodymilano.it - P. IVA 035169501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400" spc="-1" strike="noStrike" baseline="30000">
                <a:solidFill>
                  <a:srgbClr val="115091"/>
                </a:solidFill>
                <a:latin typeface="Arial Narrow"/>
              </a:rPr>
              <a:t>T.: +39 02 55005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400" spc="-1" strike="noStrike" baseline="30000">
                <a:solidFill>
                  <a:srgbClr val="115091"/>
                </a:solidFill>
                <a:latin typeface="Arial Narrow"/>
              </a:rPr>
              <a:t>Fax: +39 02 550053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baseline="30000">
                <a:solidFill>
                  <a:srgbClr val="115091"/>
                </a:solidFill>
                <a:latin typeface="Arial Narrow"/>
              </a:rPr>
              <a:t>servizioclienti@foodymilano.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baseline="30000">
                <a:solidFill>
                  <a:srgbClr val="115091"/>
                </a:solidFill>
                <a:latin typeface="Arial Narrow"/>
              </a:rPr>
              <a:t>protocollo.foodymilano@pec.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baseline="30000">
                <a:solidFill>
                  <a:srgbClr val="115091"/>
                </a:solidFill>
                <a:latin typeface="Arial Narrow"/>
              </a:rPr>
              <a:t>www.foodymilano.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Immagine 4" descr=""/>
          <p:cNvPicPr/>
          <p:nvPr/>
        </p:nvPicPr>
        <p:blipFill>
          <a:blip r:embed="rId2"/>
          <a:stretch/>
        </p:blipFill>
        <p:spPr>
          <a:xfrm>
            <a:off x="3479760" y="1916280"/>
            <a:ext cx="2184480" cy="998280"/>
          </a:xfrm>
          <a:prstGeom prst="rect">
            <a:avLst/>
          </a:prstGeom>
          <a:ln w="0">
            <a:noFill/>
          </a:ln>
        </p:spPr>
      </p:pic>
      <p:pic>
        <p:nvPicPr>
          <p:cNvPr id="479" name="Immagine 2" descr=""/>
          <p:cNvPicPr/>
          <p:nvPr/>
        </p:nvPicPr>
        <p:blipFill>
          <a:blip r:embed="rId3"/>
          <a:stretch/>
        </p:blipFill>
        <p:spPr>
          <a:xfrm>
            <a:off x="4167360" y="5419800"/>
            <a:ext cx="807840" cy="23472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5T14:38:59Z</dcterms:created>
  <dc:creator>user</dc:creator>
  <dc:description/>
  <dc:language>en-US</dc:language>
  <cp:lastModifiedBy>Valeria Raddato</cp:lastModifiedBy>
  <cp:lastPrinted>2021-11-18T10:46:46Z</cp:lastPrinted>
  <dcterms:modified xsi:type="dcterms:W3CDTF">2022-03-22T12:44:07Z</dcterms:modified>
  <cp:revision>3603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elivery Date">
    <vt:lpwstr/>
  </property>
  <property fmtid="{D5CDD505-2E9C-101B-9397-08002B2CF9AE}" pid="3" name="DocIDPosition">
    <vt:r8>0</vt:r8>
  </property>
  <property fmtid="{D5CDD505-2E9C-101B-9397-08002B2CF9AE}" pid="4" name="DocIDinSlide">
    <vt:bool>1</vt:bool>
  </property>
  <property fmtid="{D5CDD505-2E9C-101B-9397-08002B2CF9AE}" pid="5" name="DocIDinTitle">
    <vt:bool>1</vt:bool>
  </property>
  <property fmtid="{D5CDD505-2E9C-101B-9397-08002B2CF9AE}" pid="6" name="Event">
    <vt:lpwstr/>
  </property>
  <property fmtid="{D5CDD505-2E9C-101B-9397-08002B2CF9AE}" pid="7" name="Final">
    <vt:bool>1</vt:bool>
  </property>
  <property fmtid="{D5CDD505-2E9C-101B-9397-08002B2CF9AE}" pid="8" name="NotesPageLayout">
    <vt:lpwstr>Message</vt:lpwstr>
  </property>
  <property fmtid="{D5CDD505-2E9C-101B-9397-08002B2CF9AE}" pid="9" name="Title">
    <vt:lpwstr>Diapositiva 1</vt:lpwstr>
  </property>
  <property fmtid="{D5CDD505-2E9C-101B-9397-08002B2CF9AE}" pid="10" name="docid">
    <vt:lpwstr>MIL-24.1/13.12-06092010-19620/MG</vt:lpwstr>
  </property>
</Properties>
</file>